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5.gif" ContentType="image/gif"/>
  <Override PartName="/ppt/media/WHOOSH.WAV" ContentType="audio/x-wav"/>
  <Override PartName="/ppt/media/image7.wmf" ContentType="image/x-wmf"/>
  <Override PartName="/ppt/media/CASHREG.WAV" ContentType="audio/x-wav"/>
  <Override PartName="/ppt/media/image15.wmf" ContentType="image/x-wmf"/>
  <Override PartName="/ppt/media/image14.wmf" ContentType="image/x-wmf"/>
  <Override PartName="/ppt/media/image13.wmf" ContentType="image/x-wmf"/>
  <Override PartName="/ppt/media/image11.wmf" ContentType="image/x-wmf"/>
  <Override PartName="/ppt/media/CHIMES.WAV" ContentType="audio/x-wav"/>
  <Override PartName="/ppt/media/image6.wmf" ContentType="image/x-wmf"/>
  <Override PartName="/ppt/media/image10.wmf" ContentType="image/x-wmf"/>
  <Override PartName="/ppt/media/image12.wmf" ContentType="image/x-wmf"/>
  <Override PartName="/ppt/media/image1.gif" ContentType="image/gif"/>
  <Override PartName="/ppt/media/image2.wmf" ContentType="image/x-wmf"/>
  <Override PartName="/ppt/media/image4.wmf" ContentType="image/x-wmf"/>
  <Override PartName="/ppt/media/EXPLODE.WAV" ContentType="audio/x-wav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F32-FD68-4EAB-ACC4-FB83BC71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A8F-1EE2-40AD-805E-8D390270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206-489B-4F22-89B6-0435D7F4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F99-57CE-4A7B-81B7-C37E8C38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05F-0957-4546-8485-3AAE624D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FF23-D51E-4C31-8DFF-EB511842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6F4-98D1-4DBD-8D90-9AE17D78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F905-D09D-4CBC-A4CD-67A26092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61E-9F02-400E-B60D-7091CDDF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CDC-8FA9-4273-BAF3-44CA0E73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CAA6-22F8-44B6-BD3F-48603AF0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BEA-B413-4934-A4CE-355A00A3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6FE6-A84F-4170-A23F-E849EA1CE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audio" Target="../media/CHIMES.WAV"/><Relationship Id="rId11" Type="http://schemas.openxmlformats.org/officeDocument/2006/relationships/audio" Target="../media/CASHREG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EXPLODE.WAV"/><Relationship Id="rId19" Type="http://schemas.openxmlformats.org/officeDocument/2006/relationships/audio" Target="../media/EXPLODE.WAV"/><Relationship Id="rId20" Type="http://schemas.openxmlformats.org/officeDocument/2006/relationships/audio" Target="../media/EXPLODE.WAV"/><Relationship Id="rId21" Type="http://schemas.openxmlformats.org/officeDocument/2006/relationships/audio" Target="../media/EXPLODE.WAV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WHOOSH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EXPLODE.WAV"/><Relationship Id="rId22" Type="http://schemas.openxmlformats.org/officeDocument/2006/relationships/audio" Target="../media/EXPLODE.WAV"/><Relationship Id="rId23" Type="http://schemas.openxmlformats.org/officeDocument/2006/relationships/audio" Target="../media/EXPLODE.WAV"/><Relationship Id="rId24" Type="http://schemas.openxmlformats.org/officeDocument/2006/relationships/audio" Target="../media/EXPLODE.WAV"/><Relationship Id="rId25" Type="http://schemas.openxmlformats.org/officeDocument/2006/relationships/audio" Target="../media/EXPLODE.WAV"/><Relationship Id="rId26" Type="http://schemas.openxmlformats.org/officeDocument/2006/relationships/audio" Target="../media/EXPLODE.WAV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audio" Target="../media/CASHREG.WAV"/><Relationship Id="rId10" Type="http://schemas.openxmlformats.org/officeDocument/2006/relationships/audio" Target="../media/WHOOSH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audio" Target="../media/CASHREG.WAV"/><Relationship Id="rId20" Type="http://schemas.openxmlformats.org/officeDocument/2006/relationships/audio" Target="../media/WHOOSH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10400" y="1295280"/>
            <a:ext cx="3333600" cy="3333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44" name=""/>
            <p:cNvSpPr/>
            <p:nvPr/>
          </p:nvSpPr>
          <p:spPr>
            <a:xfrm>
              <a:off x="0" y="609480"/>
              <a:ext cx="914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e and label a matrix to organize the following informat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666880" y="3352680"/>
                <a:ext cx="232416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7" name=""/>
          <p:cNvGraphicFramePr/>
          <p:nvPr/>
        </p:nvGraphicFramePr>
        <p:xfrm>
          <a:off x="2971800" y="3657600"/>
          <a:ext cx="3636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3657600"/>
                    <a:ext cx="363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308880" y="152388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. Law Firm Personn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7960" y="1905120"/>
            <a:ext cx="542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Males: 3 Attorneys, 4 Paraleg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Females: 4 Attorneys, 5 Paraleg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4280" y="3505320"/>
            <a:ext cx="142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9560" y="2971800"/>
            <a:ext cx="37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Attorneys     Paraleg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191120" y="3657600"/>
          <a:ext cx="40464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1120" y="3657600"/>
                    <a:ext cx="404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971800" y="4114800"/>
          <a:ext cx="40464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4114800"/>
                    <a:ext cx="404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191120" y="4114800"/>
          <a:ext cx="363240" cy="48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91120" y="4114800"/>
                    <a:ext cx="363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3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3352680" cy="1440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62" name=""/>
            <p:cNvSpPr/>
            <p:nvPr/>
          </p:nvSpPr>
          <p:spPr>
            <a:xfrm>
              <a:off x="0" y="609480"/>
              <a:ext cx="914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e and label a matrix to organize the following informat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130560" y="3747960"/>
                <a:ext cx="259092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5" name=""/>
          <p:cNvGraphicFramePr/>
          <p:nvPr/>
        </p:nvGraphicFramePr>
        <p:xfrm>
          <a:off x="3462480" y="4038480"/>
          <a:ext cx="614160" cy="4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62480" y="4038480"/>
                    <a:ext cx="6141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59720" y="1523880"/>
            <a:ext cx="43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2. Car Rental Reserv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7960" y="1905120"/>
            <a:ext cx="50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edans: 26 budget, 47 lux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onvertibles: 3 budget, 8 lux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port Utility: 5 budget, 9 lux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7240" y="3886200"/>
            <a:ext cx="2116080" cy="19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nvert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port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33440" y="3352680"/>
            <a:ext cx="26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Budget   Lux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4680" y="4038480"/>
          <a:ext cx="650880" cy="4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4680" y="4038480"/>
                    <a:ext cx="6508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602160" y="4648320"/>
          <a:ext cx="36324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02160" y="4648320"/>
                    <a:ext cx="363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800600" y="4648320"/>
          <a:ext cx="363600" cy="48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00600" y="4648320"/>
                    <a:ext cx="363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581280" y="5257800"/>
          <a:ext cx="363600" cy="485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81280" y="5257800"/>
                    <a:ext cx="363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780080" y="5257800"/>
          <a:ext cx="404640" cy="48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80080" y="5257800"/>
                    <a:ext cx="404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19280" y="1317600"/>
                <a:ext cx="407664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0" y="811080"/>
            <a:ext cx="9144000" cy="890640"/>
            <a:chOff x="0" y="811080"/>
            <a:chExt cx="9144000" cy="890640"/>
          </a:xfrm>
        </p:grpSpPr>
        <p:sp>
          <p:nvSpPr>
            <p:cNvPr id="84" name=""/>
            <p:cNvSpPr/>
            <p:nvPr/>
          </p:nvSpPr>
          <p:spPr>
            <a:xfrm>
              <a:off x="0" y="8110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 Find the sum of the matrice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12682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246640" y="1284120"/>
                <a:ext cx="2691000" cy="180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7" name=""/>
          <p:cNvGraphicFramePr/>
          <p:nvPr/>
        </p:nvGraphicFramePr>
        <p:xfrm>
          <a:off x="6172200" y="1573200"/>
          <a:ext cx="4572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573200"/>
                    <a:ext cx="457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629400" y="1573200"/>
          <a:ext cx="8683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1573200"/>
                    <a:ext cx="868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172200" y="2182680"/>
          <a:ext cx="45720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2182680"/>
                    <a:ext cx="457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934320" y="2182680"/>
          <a:ext cx="50940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2182680"/>
                    <a:ext cx="509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42880" y="1344600"/>
                <a:ext cx="461484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0" y="811080"/>
            <a:ext cx="9144000" cy="890640"/>
            <a:chOff x="0" y="811080"/>
            <a:chExt cx="9144000" cy="890640"/>
          </a:xfrm>
        </p:grpSpPr>
        <p:sp>
          <p:nvSpPr>
            <p:cNvPr id="98" name=""/>
            <p:cNvSpPr/>
            <p:nvPr/>
          </p:nvSpPr>
          <p:spPr>
            <a:xfrm>
              <a:off x="0" y="8110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 Find the difference of the matrice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920" y="12682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297400" y="1284120"/>
                <a:ext cx="3449880" cy="180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1" name=""/>
          <p:cNvGraphicFramePr/>
          <p:nvPr/>
        </p:nvGraphicFramePr>
        <p:xfrm>
          <a:off x="5943600" y="1600200"/>
          <a:ext cx="12304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00200"/>
                    <a:ext cx="1230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467480" y="1600200"/>
          <a:ext cx="8683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1600200"/>
                    <a:ext cx="868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477120" y="2209680"/>
          <a:ext cx="45720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2209680"/>
                    <a:ext cx="457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7696080" y="2209680"/>
          <a:ext cx="45720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2209680"/>
                    <a:ext cx="457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743200" y="1600200"/>
          <a:ext cx="566640" cy="40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1600200"/>
                    <a:ext cx="5666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747960" y="1455840"/>
          <a:ext cx="567000" cy="56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47960" y="1455840"/>
                    <a:ext cx="5670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730600" y="2340000"/>
          <a:ext cx="566640" cy="565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30600" y="2340000"/>
                    <a:ext cx="5666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030560" y="2340000"/>
          <a:ext cx="567000" cy="565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30560" y="2340000"/>
                    <a:ext cx="5670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203560" y="1892160"/>
          <a:ext cx="566640" cy="565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3560" y="1892160"/>
                    <a:ext cx="5666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4-09-13T11:59:01Z</dcterms:modified>
  <cp:revision>71</cp:revision>
  <dc:subject/>
  <dc:title>No Slide Title</dc:title>
</cp:coreProperties>
</file>